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6600-DAFD-4786-B499-BFE87E16F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23EF-E09D-4970-809F-1CFF572C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E6FC-D841-4671-AE5B-0B713995E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0497-8599-49E3-8D73-6875BDCC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F375-DFA6-4366-8124-C7A90292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9B8A-476B-4E7F-8A24-BB737425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DAF0-C62B-46E9-B8AA-9D292A5E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8B18-306A-4CDD-A689-FCE3BEB8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9263-2CF6-4D85-B2FD-2EB403DA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06B8-906E-4A62-8052-A29AD44C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0C33-1676-48A2-8477-5BD3BCB0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3515-FBA4-4B27-94F7-78FF7273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0AD9-DF03-41EB-90CA-199024FDCBB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NIN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9:Exercises 1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00160" y="1300320"/>
            <a:ext cx="8943840" cy="43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αὐτος δε Ἰησους οὐκ ἐπιστευεν ἑαυτον αὐτοι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ι ἐλεγεν αὐτοις∙ ‘Υμεις ἐκ τουτου του κοσμου ἐστε, ἐγω οὐκ εἰμι ἐκ του κοσμου τουτο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ι τοιαυταις παραβολαις πολλαις ἐλαλει αὐτοις τον λογ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ι ἐρχονται παλιν εἰς Ἱεροσολυμα. και ἐν τῳ ἱερῳ περιπατει ὁ Ἰησους και ἐρχονται προς αὐτον οἱ Ἰουδαιο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λεγον οὐν οἱ Ἰουδαιοι προς ἑαυτους∙ Που οὑτος μελλει ἐρχεσθαι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κ του θεου ἐσμεν και ὁ κοσμος ὁλος ἐν τῳ πονηρῳ ἐστι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9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00160" y="1300320"/>
            <a:ext cx="894384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ι ἐλεγεν αὐτοις∙ Ὑμιν το μυστηριον διδασκω της βασιλειας του θεου∙ ἐκεινοις δε τοις ἐξω ἐν παραβολαις ταυτα λεγω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λεγεν γαρ ὁ Ἰωαννης τῳ Ἡρῳδῃ∙ Οὐκ ἐξεστιν σοι ἐχειν την γυναικα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600" spc="-1" strike="noStrike">
                <a:solidFill>
                  <a:srgbClr val="ffffff"/>
                </a:solidFill>
                <a:latin typeface="Gentium"/>
              </a:rPr>
              <a:t>wife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του ἀδελφου σο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is is my commandment: Have love for one another, because you are my disciples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 am the bread of life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Jesus says to them, ‘I do not tell you (pl.) by (use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ν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what authority I am doing these things.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Having received his sight, he was saying, ‘I see people, but they are walking about like trees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9:Exercises 3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200160" y="1300320"/>
            <a:ext cx="89438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ζητουν οὐν τον Ἰησουν και ἐλεγον μετ’ ἀλληλων ἐν τῳ ἱερῳ∙ Πως ποιει ταυτα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στιν χαρα ἐν ὑμιν δια την ἀγαπην ὑμων τε και ἐμο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Σαδδουκαιοι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Sadducees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μεν γαρ λεγουσιν μη εἰναι ζωην μετα θανατον μητε ἀλλελον, Φαρισαιοι δε διδασκουσιν ταυτ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γω δε σοι λεγω ὁτι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that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συ εἶ Πετρος, και ἐπι ταυτῃ τῃ πετρᾳ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rock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οἰκοδομησω μου την ἐκκλησια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κραζον φωνῃ μεγαλῃ λεγοντες∙ Ἁγιον ἐστιν το ἀρνι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ι ἐλεγεν∙ Οὐ θελω το ποτηριον τουτο∙ ἀλλα τουτο θελεις, διο ἐγω δεξομαι αὐτο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9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00160" y="1300320"/>
            <a:ext cx="894384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ι εἰ γαρ εἰσιν ἀλλοι θεοι εἰτε ἐν οὐρανῳ εἰτε ἐπι γης, ἡμιν ἐστιν εἰς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one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 θεος∙ και γε οὑτος ἐστιν ὁ κυριος του οὐρανου και της γης∙ αὐτῳ ἀπα προσκυνησομε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τοτε προσκαλεσαμενος αὐτον ὁ κυριος αὐτου λεγει αὐτῳ, Δουλε πονηρε, ποιησω ἐκεινο σοι ἐπει παρεκαλεσας μ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Pharisees therefore were saying to him, ‘You are bearing witness about yourself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whole earth exists for his glory, so we bless him and give thanks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f I cast out demons by the authority of God, the reign of God is upon you (pl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On the one hand, you come together with one another, on the other hand, you persecute one anot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9:Exercises 5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285840" y="1414440"/>
            <a:ext cx="85723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atthew 16.13-18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λθὼν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orist participle of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ρχομαι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δὲ ὁ Ἰησοῦς εἰς τὰ μέρη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the region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ισαρείας τῆς Φιλίππου ἠρώτα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he began to ask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τοὺς μαθητὰς αὐτοῦ λέγων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saying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, Τίνα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whom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λέγουσιν οἱ ἄνθρωποι εἶναι τὸν υἱὸν τοῦ ἀνθρώπου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n-GB" sz="2600" spc="-1" strike="noStrike" baseline="30000">
                <a:solidFill>
                  <a:srgbClr val="ffffff"/>
                </a:solidFill>
                <a:latin typeface="Gentium"/>
              </a:rPr>
              <a:t>14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οἱ δὲ εἶπαν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they said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,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Οἱ μὲν Ἰωάννην τὸν βαπτιστήν, ἄλλοι δὲ Ἠλίαν, ἕτεροι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δὲ Ἰερεμίαν ἢ ἕνα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one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τῶν προφητῶν. </a:t>
            </a:r>
            <a:r>
              <a:rPr b="0" lang="el-GR" sz="2600" spc="-1" strike="noStrike" baseline="30000">
                <a:solidFill>
                  <a:srgbClr val="ffffff"/>
                </a:solidFill>
                <a:latin typeface="Gentium"/>
              </a:rPr>
              <a:t>15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 λέγει αὐτοῖς, Ὑμεῖς δὲ τίνα με λέγετε εἶναι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n-GB" sz="2600" spc="-1" strike="noStrike" baseline="30000">
                <a:solidFill>
                  <a:srgbClr val="ffffff"/>
                </a:solidFill>
                <a:latin typeface="Gentium"/>
              </a:rPr>
              <a:t>16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ἀποκριθεὶς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in reply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δὲ Σίμων Πέτρος εἶπεν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said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,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Σὺ εἶ ὁ Χριστὸς ὁ υἱὸς τοῦ θεοῦ τοῦ ζῶντος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living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285840" y="2008080"/>
            <a:ext cx="86439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baseline="30000">
                <a:solidFill>
                  <a:srgbClr val="ffffff"/>
                </a:solidFill>
                <a:latin typeface="Gentium"/>
              </a:rPr>
              <a:t>17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 ἀποκριθεὶς δὲ ὁ Ἰησοῦς εἶπεν αὐτῷ, Μακάριος εἶ, Σίμων Βαριωνᾶ, ὅτι σὰρξ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flesh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ὶ αἷμα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blood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οὐκ ἀπεκάλυψέν σοι ἀλλ’ ὁ πατήρ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father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μου ὁ ἐν τοῖς οὐρανοῖς. </a:t>
            </a:r>
            <a:r>
              <a:rPr b="0" lang="el-GR" sz="2600" spc="-1" strike="noStrike" baseline="30000">
                <a:solidFill>
                  <a:srgbClr val="ffffff"/>
                </a:solidFill>
                <a:latin typeface="Gentium"/>
              </a:rPr>
              <a:t>18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 καγὼ δέ σοι λέγω ὅτι σὺ εἶ Πέτρος, καὶ ἐπὶ ταύτῃ τῇ πέτρᾳ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rock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οἰκοδομήσω μου τὴν ἐκκλησίαν καὶ πύλαι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gates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ᾅδου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of Hades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οὐ κατισχύσουσιν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they will overcome + gen.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αὐτῆς.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9:Exercises 6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14:12:41Z</dcterms:created>
  <dc:creator>Sarah</dc:creator>
  <dc:description/>
  <dc:language>en-US</dc:language>
  <cp:lastModifiedBy>Sarah</cp:lastModifiedBy>
  <dcterms:modified xsi:type="dcterms:W3CDTF">2009-02-25T21:31:07Z</dcterms:modified>
  <cp:revision>27</cp:revision>
  <dc:subject/>
  <dc:title>Slide 1</dc:title>
</cp:coreProperties>
</file>